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944-9B3E-43C8-AD24-3921C2E7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EED-21F7-4665-8C21-A3D4CE2A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F68-A829-4AB9-BD01-9A147C75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F6F-1BD1-4E2B-B8CC-2C67F481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7BA6-2C18-48C4-8011-D2677491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C78E-A702-4F4F-A8B9-14B5201D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6805-FCE9-4B8A-B29B-B6FC6435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3CEB-36B4-4B1B-A7BE-2E19CFED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5FED-0F2D-4296-A1B6-F2F064C8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6B0C-4E54-4954-B522-4FEE191A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BC3C-179D-43E0-9FD0-572B2E59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0F8-118D-48CB-8E8B-ECC59A33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2E87-2504-45CF-AC00-6F8B16F1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C5D2-5EAD-4962-9BB7-554221B0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A5C8-B2FF-47DB-B25C-8F384379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FF3D-17AA-4EEE-9908-56A8F866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15B7-459B-4924-9C96-64A3D246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618-5562-4D8F-83DB-36CB25FB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5C9-D12D-4780-A46E-AC3A8A9C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582-BCE2-4DB9-B477-8E5B0D3C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83B-67C7-4711-A8A0-2EB7C68B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18D-5F6D-40BA-A877-CBC9BC94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567-D5BD-4B84-A2F8-218D7B55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FE1-2C53-414E-942A-0A7119A1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6DC3-5C6F-48F1-80FF-220B65AC2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4A3D-2A0F-44B4-9FC8-02FE7EF13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133720"/>
            <a:ext cx="82296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43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4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concessão de lavra terá por título uma portaria assinada pelo Ministro de Estado de Minas e Energ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9:50Z</dcterms:modified>
  <cp:revision>66</cp:revision>
  <dc:subject/>
  <dc:title>Apresentação do PowerPoint</dc:title>
</cp:coreProperties>
</file>